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4CB-6DFA-4842-93CF-747EE61E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1DB-3C06-4973-BC6A-25E58B93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74C3-6702-4C18-A410-C14809FD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EBC-CF23-4666-8D21-0973F9D0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D9B-41DD-41C8-A813-A3C06B33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FBE-DAEF-41F9-AF22-1539D72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806-D284-4F9A-A272-49A218F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DAC-90C8-47DD-806F-F516EC20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618-CDD6-45C3-BB0A-FB16307A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8CE-23C3-4D33-97CE-014DA814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DC9-F341-4D0B-AA4B-7CFBF45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C73-A5E9-42C2-AD37-EA764751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294-9C0A-4774-98A3-6A8E0F79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2E3-601A-4E45-B505-5F1F943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061-E1FA-4695-9399-C0124142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893-4C86-4264-8ABF-A28F35E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AD0-4298-422D-885D-AACDA34DA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www.imdb.com/rg/mediaindex/thumbnail/media/rm1416206336/nm0000069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503631360/nm0000054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5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time.com/time/2003/jfk/photoessay/2.html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70080" y="24382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4290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4419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(Showing 3 of 4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1" descr="Frank Sinatra, portrait for Kings Go Forth, 1958.&#10;Vintage silver gelatin, 7x13.5, signed. $900&#10;Â© 1978 Bill Avery&#10;MPT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495680"/>
            <a:ext cx="349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0" y="4952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4" descr="c. 1953&#10;Photo by Frank Powoln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19320" y="4495680"/>
            <a:ext cx="33012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457200" y="4952880"/>
            <a:ext cx="83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visit with Lady Seym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4"/>
          <p:cNvSpPr/>
          <p:nvPr/>
        </p:nvSpPr>
        <p:spPr>
          <a:xfrm>
            <a:off x="1066680" y="49528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8" descr="President Kennedy, head and shoulders portrait photograph, looking up. Photograph distributed by the White House. "/>
          <p:cNvPicPr/>
          <p:nvPr/>
        </p:nvPicPr>
        <p:blipFill>
          <a:blip r:embed="rId10"/>
          <a:stretch/>
        </p:blipFill>
        <p:spPr>
          <a:xfrm>
            <a:off x="2170080" y="3809880"/>
            <a:ext cx="34452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9" descr="Robert F. Kennedy - Photo"/>
          <p:cNvPicPr/>
          <p:nvPr/>
        </p:nvPicPr>
        <p:blipFill>
          <a:blip r:embed="rId11"/>
          <a:stretch/>
        </p:blipFill>
        <p:spPr>
          <a:xfrm>
            <a:off x="2133720" y="3244680"/>
            <a:ext cx="3808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ppy Birthday to m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1" descr="President Kennedy, head and shoulders portrait photograph, looking up. Photograph distributed by the White House. "/>
          <p:cNvPicPr/>
          <p:nvPr/>
        </p:nvPicPr>
        <p:blipFill>
          <a:blip r:embed="rId12"/>
          <a:stretch/>
        </p:blipFill>
        <p:spPr>
          <a:xfrm>
            <a:off x="2170080" y="44956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arguing with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. ag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4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70080" y="51814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Wants eel pie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6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70080" y="5791320"/>
            <a:ext cx="34452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n’t arres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Robert F. Kennedy - Photo"/>
          <p:cNvPicPr/>
          <p:nvPr/>
        </p:nvPicPr>
        <p:blipFill>
          <a:blip r:embed="rId15"/>
          <a:stretch/>
        </p:blipFill>
        <p:spPr>
          <a:xfrm>
            <a:off x="152280" y="4495680"/>
            <a:ext cx="381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276720" y="2666880"/>
            <a:ext cx="3124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57400" y="25146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152280" y="34290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419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7575d1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2133720" y="27432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itting,  Needle Poi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Mozart, Hand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What are movi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thing written by Shakespe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572000"/>
            <a:ext cx="523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7"/>
          <p:cNvSpPr/>
          <p:nvPr/>
        </p:nvSpPr>
        <p:spPr>
          <a:xfrm>
            <a:off x="762120" y="45720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44197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9" descr="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334120"/>
            <a:ext cx="685800" cy="434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0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057400" y="36576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00400" y="3809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2133720" y="38862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user hasn’t completed this section of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What’s a phon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resident Kennedy, head and shoulders portrait photograph, looking up. Photograph distributed by the White House. "/>
          <p:cNvPicPr/>
          <p:nvPr/>
        </p:nvPicPr>
        <p:blipFill>
          <a:blip r:embed="rId9"/>
          <a:stretch/>
        </p:blipFill>
        <p:spPr>
          <a:xfrm>
            <a:off x="228600" y="68580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3505320"/>
            <a:ext cx="4038480" cy="167616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85800" y="3505320"/>
            <a:ext cx="2895480" cy="167616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15242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47242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1828800" y="47242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487692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75564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1"/>
          <p:cNvPicPr/>
          <p:nvPr/>
        </p:nvPicPr>
        <p:blipFill>
          <a:blip r:embed="rId5"/>
          <a:stretch/>
        </p:blipFill>
        <p:spPr>
          <a:xfrm>
            <a:off x="1905120" y="380988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04840" y="533520"/>
            <a:ext cx="49212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2"/>
          <p:cNvPicPr/>
          <p:nvPr/>
        </p:nvPicPr>
        <p:blipFill>
          <a:blip r:embed="rId7"/>
          <a:stretch/>
        </p:blipFill>
        <p:spPr>
          <a:xfrm>
            <a:off x="941400" y="1905120"/>
            <a:ext cx="93348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5"/>
          <p:cNvPicPr/>
          <p:nvPr/>
        </p:nvPicPr>
        <p:blipFill>
          <a:blip r:embed="rId8"/>
          <a:stretch/>
        </p:blipFill>
        <p:spPr>
          <a:xfrm>
            <a:off x="2255760" y="1905120"/>
            <a:ext cx="104796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7" descr="oaththp"/>
          <p:cNvPicPr/>
          <p:nvPr/>
        </p:nvPicPr>
        <p:blipFill>
          <a:blip r:embed="rId9"/>
          <a:stretch/>
        </p:blipFill>
        <p:spPr>
          <a:xfrm>
            <a:off x="3505320" y="196704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resident Kennedy, head and shoulders portrait photograph, looking up. Photograph distributed by the White House. "/>
          <p:cNvPicPr/>
          <p:nvPr/>
        </p:nvPicPr>
        <p:blipFill>
          <a:blip r:embed="rId10"/>
          <a:stretch/>
        </p:blipFill>
        <p:spPr>
          <a:xfrm>
            <a:off x="3733920" y="3657600"/>
            <a:ext cx="73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4-30T02:51:33Z</dcterms:modified>
  <cp:revision>27</cp:revision>
  <dc:subject/>
  <dc:title>Profile</dc:title>
</cp:coreProperties>
</file>